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8C9-F6E8-4998-A853-0DA9161A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689-E22F-4D77-81E6-4AF5B937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CF7-0319-4DC1-897A-54DBCFB0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4B1-C7E2-46E2-97BF-C6A3DAD2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6C1F-1956-4910-96A0-96358CC1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9B44-2771-4ED1-A1E0-DFF635B6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9E45-B36A-474A-B66E-28650F73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28E3-DCFF-48D3-A832-EBB52A9E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084-5689-4470-B856-D1C10342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3071-F2CF-45B9-A34A-AC695162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9A1F-1226-4AFD-8A64-4A75D360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C2A-193D-4864-B942-73718027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77A1-F2A3-46FD-9C2E-679B04D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2CCE-FC92-43AD-958E-1997ACAE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63FD-0E43-474B-98C9-5E7B890B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FD89-4986-4724-9CE7-63EAF248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C0E7-7A5C-4E00-A698-030D5872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96B-8522-435B-853D-CC4D3A49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AA4-9D34-42FF-9A75-A40FB900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5E7-C15C-4FFA-8D12-A6BCD650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2D5-8A2D-416D-B556-C0CE78B8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A84-E64F-4792-887B-E08B73B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434-9515-44CC-BFF3-F054D63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CC5-5AE0-4A5E-BE60-6ED3B507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AE48-28E8-4A1D-922F-4DCC92EED99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5C32-D983-4E69-9A97-3FDE60F6C0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4E86-77E1-4196-A840-94543020D65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3FB5-128F-45E9-93DD-06B3708CFE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73;&#1080;&#1086;&#1083;&#1086;&#1075;&#1080;&#1103;%20&#1089;&#1072;&#1081;&#1090;/DswMedia/&#1058;&#1077;&#1082;&#1089;&#1090;&#1099;/&#1056;&#1072;&#1073;&#1086;&#1095;&#1080;&#1081;%20&#1083;&#1080;&#1089;&#1090;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&#1073;&#1080;&#1086;&#1083;&#1086;&#1075;&#1080;&#1103;%20&#1089;&#1072;&#1081;&#1090;/DswMedia/&#1056;&#1080;&#1089;&#1091;&#1085;&#1082;&#1080;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езентация к уроку </a:t>
            </a:r>
            <a:r>
              <a:rPr b="0" lang="ru-RU" sz="4000" spc="-1" strike="noStrike">
                <a:solidFill>
                  <a:srgbClr val="ff0033"/>
                </a:solidFill>
                <a:latin typeface="Arial"/>
              </a:rPr>
              <a:t>«Строение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33"/>
                </a:solidFill>
                <a:latin typeface="Arial"/>
              </a:rPr>
              <a:t>и функции кожи»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(8 класс)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256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готови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овин С. И. – учитель биологии и хим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У  Чёбаковская СОШ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08 г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640-BC4C-4DC8-B7F6-003F8A7905A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C8F87-2391-403A-B439-8D2F9BF9EA83}" type="datetime1">
              <a:rPr lang="en-US"/>
              <a:t>07/31/26</a:t>
            </a:fld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2880" y="657360"/>
            <a:ext cx="778356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 основании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троения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кожи попробуем обсудить её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функции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жа – защитный орг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жа – выделительный орг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жа – орган чув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жа – орган, регулирующий температуру нашего те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B84-6B7F-4425-A763-EADFBF4EC1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5CCE3-0475-49D9-9E40-3AEDFDF8CFF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игиена кожи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тота – залог здоров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пание – процедура здоров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ечный свет – друг здоров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ал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случилась бе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5080" y="1981080"/>
          <a:ext cx="3809880" cy="411660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9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800600" cy="47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D60-798A-4702-8769-69CE98BD359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0CF12-ED7A-4846-A6CD-DB22FA0CC8F5}" type="datetime1">
              <a:rPr lang="en-US"/>
              <a:t>07/31/26</a:t>
            </a:fld>
          </a:p>
        </p:txBody>
      </p:sp>
    </p:spTree>
  </p:cSld>
  <p:transition>
    <p:zoom dir="in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2560" y="380880"/>
            <a:ext cx="8080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Соотнесите органы с их функциям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8800"/>
            <a:ext cx="4952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2560" y="1371600"/>
          <a:ext cx="7772400" cy="4992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ы кож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и органов кож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ртериальные капилля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льные жел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цеп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нозные капилля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овые жел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кожная жировая клетча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мфатические капилля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л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г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чки гладких мыш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перечно – полосатые мышц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. транспорт от клеток кожи продуктов жизне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. запас питательных веществ, теплоизоля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. У наших предков способствовали сохранению теп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. образование тканевой жидк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выделение воды и минеральных со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. управление мимик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. выделение смазки ко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. защита кончиков пальц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. информация о состоянии окружающей сре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. поднимание вол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. Смягчение механических воздей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. снабжение тканей кожи питанием и кислородо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16B-7B0B-44CC-AB76-FDC495AC155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00B76-4B65-4B79-8C63-3B58A2E93A57}" type="datetime1">
              <a:rPr lang="en-US"/>
              <a:t>07/31/26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Хотите узнать больше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И. Сонин, М. Р. Сапин Учебник биологии « Человек» « Дрофа» 2002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. А. Панфилова Хрестоматия по биологии « Человек» « Лицей» 2005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. Д. Зверев Книга для чтения по анатомии, физиологии и гигиене человека «Просвещение» 1978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B8A-D0DE-451C-9A65-51E082FFC6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7446F-5D51-42A8-A608-91A31090E833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-3052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Продолжим изучение биологии человека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1599840"/>
            <a:ext cx="5639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Times New Roman"/>
              </a:rPr>
              <a:t>На наш организм окружающая нас среда не всегда оказывает положительное воздействие. Чтобы обеспечить нормальное функционирование всех систем организма необходимы таможенная и пограничная службы, моментально реагирующие на все изменения, способные нарушить нашу деятельн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E211-1ACC-4FB7-BFC2-1FF982D2CD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8E0D3E0-4EA9-4937-9C11-2F4EA98C99BB}" type="datetime1">
              <a:rPr lang="en-US"/>
              <a:t>07/31/26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чём мы узнаем сегодня 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годня мы изучим орган исключительной важности – нашу кож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 нашего урока: « Строение и функции кож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вам известно о покрывающей всё наше тело кож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633-CBCC-4FF3-8EE2-EEFE511AC7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6F4B7-78EC-4C07-A18A-876429379BD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о вы об этом думаете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ловек, у которого в результате ожога повреждена большая площадь кожи может погибну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температуры окружающей среды наша кожа или бледнеет, или краснеет, на её поверхности может выделяться разное количество пота, или она может быть сух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вестно, что слепые люди (особенно от рождения) обладают высокой степенью осяз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99"/>
                </a:solidFill>
                <a:latin typeface="Times New Roman"/>
              </a:rPr>
              <a:t>Какие функции выполняет наша кож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99"/>
                </a:solidFill>
                <a:latin typeface="Times New Roman"/>
              </a:rPr>
              <a:t>Какие особенности строения кожи связаны с этим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6699"/>
                </a:solidFill>
                <a:latin typeface="Times New Roman"/>
              </a:rPr>
              <a:t>функциям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FFE-32A0-47ED-ABF9-0AE8A2B1F0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2D5E3-B5C8-4AD7-8423-410195F4F43D}" type="datetime1">
              <a:rPr lang="en-US"/>
              <a:t>07/31/26</a:t>
            </a:fld>
          </a:p>
        </p:txBody>
      </p:sp>
    </p:spTree>
  </p:cSld>
  <p:transition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аши план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изучим общее строение кож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наем какие ткани и органы входят в её соста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наем, что образует кожа на своей поверх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наем о функциях кожи и её частей, о её гигиен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зультаты нашей деятельности мы будем записывать в рабочие 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листы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 тетрад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1E0-9E4D-438C-8EF5-A52F05B01F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1D331-2F92-4960-B339-B86291DE391F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57360"/>
            <a:ext cx="778680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бщее строение нашей кожи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uzzle5"/>
          <p:cNvSpPr/>
          <p:nvPr/>
        </p:nvSpPr>
        <p:spPr>
          <a:xfrm>
            <a:off x="6019920" y="4327560"/>
            <a:ext cx="1523880" cy="120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uzzle2"/>
          <p:cNvSpPr/>
          <p:nvPr/>
        </p:nvSpPr>
        <p:spPr>
          <a:xfrm>
            <a:off x="5124600" y="5470560"/>
            <a:ext cx="1523880" cy="9478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uzzle3"/>
          <p:cNvSpPr/>
          <p:nvPr/>
        </p:nvSpPr>
        <p:spPr>
          <a:xfrm>
            <a:off x="6294600" y="5081760"/>
            <a:ext cx="96336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uzzle4"/>
          <p:cNvSpPr/>
          <p:nvPr/>
        </p:nvSpPr>
        <p:spPr>
          <a:xfrm>
            <a:off x="5438880" y="4297320"/>
            <a:ext cx="904680" cy="1575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uzzle5"/>
          <p:cNvSpPr/>
          <p:nvPr/>
        </p:nvSpPr>
        <p:spPr>
          <a:xfrm>
            <a:off x="4267080" y="4332240"/>
            <a:ext cx="1524240" cy="12067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uzzle3"/>
          <p:cNvSpPr/>
          <p:nvPr/>
        </p:nvSpPr>
        <p:spPr>
          <a:xfrm>
            <a:off x="4541760" y="5086440"/>
            <a:ext cx="963720" cy="13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uzzle2"/>
          <p:cNvSpPr/>
          <p:nvPr/>
        </p:nvSpPr>
        <p:spPr>
          <a:xfrm>
            <a:off x="5126040" y="3741840"/>
            <a:ext cx="1523880" cy="9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uzzle3"/>
          <p:cNvSpPr/>
          <p:nvPr/>
        </p:nvSpPr>
        <p:spPr>
          <a:xfrm>
            <a:off x="6296040" y="3352680"/>
            <a:ext cx="963720" cy="1327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uzzle3"/>
          <p:cNvSpPr/>
          <p:nvPr/>
        </p:nvSpPr>
        <p:spPr>
          <a:xfrm>
            <a:off x="4543560" y="3357720"/>
            <a:ext cx="96336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572000" cy="405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16200000">
            <a:off x="17280" y="1963440"/>
            <a:ext cx="48438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Наша кожа не просто оболочка, а сложный орган со многими функциями. Её площадь около 2 кв. м. Вес её 16 – 18 процентов от массы тела. Кожа имеет матовый оттенок. Её цвет зависит от просвечивающей крови и чёрного пигмента меланина, содержание которого в коже разных людей различ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Наружный слой – </a:t>
            </a: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эпидермис</a:t>
            </a: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 – эпителиальные, слущивающиеся клетки. Ниже – </a:t>
            </a: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дерма </a:t>
            </a: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– состоит из соединительной ткани, пронизанной мышечными гладкими волокнами. В этом слое кожи расположено огромное многообразие различных органов. Ещё ниже – </a:t>
            </a: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подкожная жировая клетчатка</a:t>
            </a: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. Она состоит из ткани, содержащей много жира – теплоизолятора и запаса питательных ве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8C2-C0EF-4624-B502-E67A1F0A39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C52FB-C69F-4652-A47B-77674D8DE112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рганы в составе кож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29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840" y="1409760"/>
            <a:ext cx="2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572000" cy="405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480" y="1828800"/>
            <a:ext cx="4435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Кровеносные сосуд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бразуют несколько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сетей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и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артериальные капилля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и тают жировую ткань, другие – потовые же лезы, третьи – волосяные луковицы и саль ные железы.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Венозные капилля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бразу ют свои сети. Вместе с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лимфатическими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капиллярам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ни уносят продукты жизне деятельности клеток кожи. Многообразные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рецепто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дают нам информацию о воздей ствиях на наш организм факторов внешней среды.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Сальные желе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ыделяют жир, де лающий нашу кожу эластичной.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Потовые желе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органы терморегуляции и выде ления. Наш пот имеет сложный состав: его основа – вода, в которой растворено много веществ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704-CB10-493D-8A3A-90AD535DC9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926A3-455D-4727-878B-2C4A6344193C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3240" y="717480"/>
            <a:ext cx="7786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о у нас на коже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27760" y="1523880"/>
            <a:ext cx="298764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152280" y="1981080"/>
            <a:ext cx="5639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Волос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нашем теле располагаются не равномер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ают три вида волос: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дли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волосы головы, бороды и усов, подмышечных впадин и половых органов;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щетинист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брови, ресницы, носовых и ушных входов;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пушков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окрывающие всё остальное тело. Внутри кожи находится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волосяная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луковица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на живая, снабжается кровью и контролируется нервами. Именно из неё и растёт волос. Волосяная луковица снабжена гладким мышечным волокном, которое сокращаясь поднимает волос.</a:t>
            </a: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6BF-DC87-48FF-AE8A-D38F79CB6B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837BB-4E02-4DD0-AF40-FC74C7C6EE0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о ещё у нас на коже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2273400"/>
            <a:ext cx="3733920" cy="3612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920" y="2324160"/>
            <a:ext cx="480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Ногт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ставляют собой плотные роговые пластинки, покрывающие тыльную поверх  -ность ногтевой фаланги пальцев. Участок кожи на котором расположен ноготь называ -  ется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ногтевым ложе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Кожные складки вокруг ногтя называются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ногтевыми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вали -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кам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Корень ногт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глубоко вдаётся под задний ногтевой валик – это точка роста ногтя. Ногти защищают наиболее чувствительные концы пальцев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01B-10D0-4154-815E-5FF85E91A8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8AC50-837F-4D5E-9051-18149430D236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04T13:31:0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